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6E-0E5C-4703-B74D-F88CBA6D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1F2-65EB-4420-AAE2-8277E8C1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C0FE-42AD-4B71-84F9-53085CE4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1A238-E90D-434F-BB90-BB1AEB1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1F5F-D6A8-4013-A447-20F70D9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E9221-63E7-4A13-B64F-054DB3C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904CD-A7F9-4359-AF02-377FDA8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CA82D-729F-4406-B5CB-7E34131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4B034-19A5-4EDE-B367-A95DBDED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FA4E4-EC67-4F1F-9100-FB4B983B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A44C-E68B-48A8-88E7-A7225A12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330-BF3D-44F7-8357-A8ABC7D7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C6E-4267-45D7-987C-3836469E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CE4-0BE5-4244-B706-C9766477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24A1-5CAE-4219-A0DC-356BEC7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840-E721-4C78-B748-840C9FA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0EF-ECCF-476A-8DD4-B3376968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A18-395D-4C8D-A6F8-D3F88182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B1FE-B9C8-4CA5-9EC2-42E8D0C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A3EC-2D83-48EF-BA3D-C70F8CE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53C-F6A2-42B6-BFC3-3F7BE2A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F4E9-2D03-410D-B6C4-39A819F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F080-9BCC-4D06-9199-29EBD87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7FC-3606-43F5-844A-DC656C8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043-7F8C-4E10-A981-3497191B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7C47-6C2E-4D34-BE72-FF2CD8EE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83E1-0BA0-457C-8E11-C56613D6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AD27-CCE9-4089-8781-575C1996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6AD9-0636-4C7C-971E-6BCAF536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DABF-4F96-4AB0-BE8E-E53468AB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BC98-691D-4740-9A67-380D7FF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9F8-1A8E-4C6D-BECD-A000078A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321F-EA3C-4AB7-A285-A4028A9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F33B-FCFA-476B-94DB-EC5D3D0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6D85-CE0A-4AA4-9427-C1ECD34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6C5C-EB3F-4131-81A0-DB4153A3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12C7-36E8-40F1-A230-3B5E9AF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4822-11D0-4491-997B-32E9AAFB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BA75-B425-4CC9-89DD-4C9BD60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E457-1A9E-42EF-9612-0B656180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FE46-916E-4D77-B169-E7DCD74D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242E-5D47-43C6-8AC1-0AD2CD8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4DC-147E-44B4-B3C3-14994B2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2882-47F3-40BC-AB1E-5065F70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223B-BD23-41D9-BFD4-652DAE56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8BE9-E9D7-4B57-94C6-B85701D7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F5D7-2272-4829-882B-2EAF4DF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4386-4B9B-40B2-B31E-6F77869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4186F-0694-4837-A6B7-FA08B6B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57D1-A983-42EF-9BEF-93B3E19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3F93-5DB5-4AA2-87D7-E6D22C4F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4CD3-AA4A-4179-B790-E8EC5144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21CA-9957-4809-A17C-F58BACD3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53C-913E-4454-9715-00B4D1D7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D5B0-9C74-451F-B5B5-3E55087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AF9E-0364-42DF-A6F6-BBF3185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17ED-7048-4B18-838E-C65EF4E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B72A-2649-4222-9629-DA8CBB4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71E3-C101-481A-B319-ADA87B6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AA45-FFE6-434B-8D37-53D4BDDD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178A-E9D8-44E1-9183-0C41BCC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CF2C8-82BF-4473-8F6D-EBF6B12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9DA7-8AC2-4CE0-A107-FC7F5A6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03DF-6102-4991-810C-259BF9C1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94F-3F1A-4FB0-9DAF-9B06431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94A9-4210-4AF4-80BD-97E920DB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151C-C9A5-418D-87C5-F6199B66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01CA-2526-46CE-99BA-79C523DD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755E1-2B4D-4E49-B112-F5C9B6FE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D55B-3705-4191-9C7F-37AE8D9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75E3-6D26-4BF9-B8E6-5EFED6D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F2A3D-237A-4D87-A30B-C6175EC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87DC-362D-4D44-9570-D95DF1B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B239-877C-41F4-83EE-A8D3FCE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7DEB7-AB0A-49FB-8879-6C8D541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C3C-B174-415F-8AA1-C584468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4F80-D7BD-46A8-A2E7-D492948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EDFB-278B-4CDB-B08D-B5F9A6A4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CAA1-1B1F-4AF3-9E01-73EB2DA9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F8DB-2AC1-45F2-A231-9D0D1492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2257-2D76-4155-BADA-1820A8B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F5D4-452D-4FC5-B567-5616BC5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49C2-B1F1-4850-8924-F532BC6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1004-0D35-4B96-ADAE-58ECDAD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18D89-DC8A-4E9A-9053-03B4EE83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6FC3-0C3D-4FC8-805B-CD4867F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0FB-2E4B-43F8-A11C-638110A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83BB-0CE5-4272-A394-F95A32D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34EF-4D2F-4D58-9FA6-A741E62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F7C6-DD1D-4894-A478-E7261C4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85FD-8E98-4C40-ABC9-0F08E311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A2A8C-81CB-4C33-88FF-1DBCD7A9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D806-4B47-490D-89AC-CB3C10E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3A03-E68A-4A28-BD6E-71DDE0E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2527-0AAD-43FD-A37B-ADF5105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1D5A-F513-4521-B876-D424E110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A4ACD-6A1A-44F2-BF34-3B9AA32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EA2-231C-43B8-AF81-21A0C8F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20E6-4AAB-4FA3-9DF3-03B9FF78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4F80-0042-4709-A8BB-3EE43E4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0263-31BF-4DD4-AB7F-71FDFAD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FDCBA-9E21-4F95-918A-46EB87B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3485-8234-424E-A0BC-A89AB694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8E65-E799-4DC7-8E4D-0B71204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EA23-CE82-457A-9F4E-CBC4E186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D988A-7F74-473E-916A-1F310B9E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F4124-95E3-41AE-9BF0-B3C5FB4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89375-B9C2-413A-BC0E-6C8F1B1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D8127-5AA5-4988-BB8D-24846A29F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9A1B4-A7C6-4B85-854C-67028B50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191F-7D96-4BC4-982B-3C14BE0A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D19CB-F90B-4A86-82A0-2D5A6882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2F816-F0FA-4E26-9F40-54A3285B0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36FC6-4853-418A-B445-2EAC58596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5C71D-D47D-4328-AC09-EB780AA31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D88F8-2238-4A6A-BC46-C996C288F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791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F5FC7-B69B-44EB-BAD4-ACE98F3F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9920" y="1023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reating a new government: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The U.S. Constitution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Breaking down the Preamble...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What are the purposes of government?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We the people...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2743200"/>
            <a:ext cx="88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s phrase establishes the idea of </a:t>
            </a: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opular sovereignt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:  the government gets its authority from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the will of the peop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299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 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in Order to form a more perfect Union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360" y="3429000"/>
            <a:ext cx="88549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How do the states unite to act as a single nation, for the good of al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means does the government have to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improve itself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(that is, to become “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more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perfect”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5920" y="8409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establish Justi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33240" y="2722320"/>
            <a:ext cx="8853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Name as many institutions/professions as you can that are part of the justice system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4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insure domestic Tranquility,…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programs, laws, government offices, etc. does the government provide in order to keep people safe and make life run smoothly within the country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647280"/>
            <a:ext cx="90694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vide for the common defen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List all of the things the governments does, builds, creates, or maintains to defend our count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9069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mote the general Welfar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does the government do to make life better, easier, healthier, and more pleasant for all its citizens and resident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67644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and secure the Blessings of Liberty to ourselves and our Posterity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freedoms and privileges are guaranteed to everyone in the country, including future generations (posterity)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68112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do ordain and establish this Constitution for the United States of America.”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20360" y="3885840"/>
            <a:ext cx="8853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 what kind of dealmaking had to take place in order for the Constitution to be created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23:47Z</dcterms:created>
  <dc:creator/>
  <dc:description/>
  <dc:language>en-US</dc:language>
  <cp:lastModifiedBy/>
  <cp:revision>1</cp:revision>
  <dc:subject/>
  <dc:title/>
</cp:coreProperties>
</file>